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41C-4E5A-4994-A9FF-F5F12499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533-938E-4AA6-B67B-B9A170C9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AB0-753C-4975-AE35-724572C3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E0B-0964-452D-8878-90FD94C7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F6E0-8231-481A-905E-EA2433BC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C713-0C94-4401-AB11-09D33782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3C8B-9D84-46B8-88F9-BD502D55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CEB8-7A27-4DEA-831E-B5445277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1989-8CEC-4D6B-8C69-65086E13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BF9B-3233-417D-99E6-91CA5EB6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3C00-23D4-4415-B28F-069BB796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90E-55EA-4EC1-9BD7-611CBADC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A834-E9D2-41EB-8263-8208F206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FA6B-DBE4-4188-A324-7F2932E1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61B3-293E-48FD-BF5C-EC6DCFAE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3A17-0403-42B1-AE50-92A71D0A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75A2-13E1-49E1-88EF-6E0E542E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077-1020-47F1-929C-A1196BFD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467-70FD-4006-AF65-94B2AE6B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5D1-6ADB-4CDD-BDA2-A9EF97EC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949-2E7C-4E3A-9AAD-18D3F7AA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111-25AE-4A75-A642-55B5EF4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A7C-6A75-4658-A1A0-BB49AB36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038-DE2F-4562-9D7E-48BCD68C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2BB5-5223-4570-B33E-378C4EA71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A27D-7744-468F-BCBF-0F5456CE39C3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C834-8A99-4C2E-B295-2D91CBC2CB3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1599840"/>
            <a:ext cx="716292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Lev Vygotsky: His Sociocultural Perspective on Human Growth and Learning.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SAMPLE POWERPOINT PRESENTATION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ith Thanks to Lauren Pickens &amp; Kehinde Olowoyey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A54C-4C81-4C46-9333-ADE29A8B28E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42880" y="102960"/>
            <a:ext cx="405756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Conclus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cial influences on cognitive development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velopment of Children’s Min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ultural influenc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n collaborative interaction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guided participation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asks in ZPD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hat skilled partners say --- what they say to selv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ocial -- private -- inner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ulture’s preferred problem solving tools -- language of competent guides -- thinking of the individual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9C03-C250-4353-A483-DB40E3E80E6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LEV VYGOTSK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Rectangle 3"/>
          <p:cNvSpPr/>
          <p:nvPr/>
        </p:nvSpPr>
        <p:spPr>
          <a:xfrm flipV="1">
            <a:off x="4495680" y="3342600"/>
            <a:ext cx="563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1934"/>
          <p:cNvPicPr/>
          <p:nvPr/>
        </p:nvPicPr>
        <p:blipFill>
          <a:blip r:embed="rId1"/>
          <a:stretch/>
        </p:blipFill>
        <p:spPr>
          <a:xfrm>
            <a:off x="2666880" y="1523880"/>
            <a:ext cx="3578400" cy="49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7281-276D-4C47-8358-5BEB20756E8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Introduc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ev Vygotsky (1896-1934) Russian psychologi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nstructivis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social construction of knowledge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hands-on, activity-based teaching and learning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allenged Piaget’s view on human developmen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3ECE-BAC9-4A12-B239-62A48A0F11E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ygotsky’s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ociocultural Perspectiv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cognitive development is shaped by sociocultural contex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the child’s interaction with members of his or her culture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9CE4-C2AC-435A-986E-FCD569B3F3F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ultural Influen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ays to approach and solve problems passed from generation to generation via oral and written communica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ulture shapes way of thinking: embodied in languag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gnitive development not all the sa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ied at the age of 38 before theory fully develope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9AD7-8489-4984-B844-12073641366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2160" y="231480"/>
            <a:ext cx="746928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Enhancement of Speech in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Early Childhood Through External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Dialogue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Intermental learning-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individual interacts   with another person, who supported him/her to learn a new skill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Intramental learning-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dividual internalizes  skill- can carry out new skill by him/herself.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hange from intermental to intramental ability depends on interaction with other people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Zone of Proximal Development (ZPD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492A-8CDC-45B1-8575-6DB069D470A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caffolding-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structure that enables forward motion within zon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cremental changes in information support moves learner to his/her highest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earning becomes “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econtextualized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” when transfer takes pla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dividual has achieved goal when the new skill/concept allows for deductive reasoning to lead to problem-solv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5D0C-5692-4B48-AB1D-D1F88B2A2AC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5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Zone of Proximal Development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Picture 7" descr="zpdshape"/>
          <p:cNvPicPr/>
          <p:nvPr/>
        </p:nvPicPr>
        <p:blipFill>
          <a:blip r:embed="rId1"/>
          <a:stretch/>
        </p:blipFill>
        <p:spPr>
          <a:xfrm>
            <a:off x="838080" y="1371600"/>
            <a:ext cx="7772400" cy="36576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457200" y="53337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Distance between actual developmental level and level of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potential as determined through problem solving under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adult guidance or in collaboration with more capable peers.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AED0-4479-4E77-A415-774CFE9309E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6320" y="102960"/>
            <a:ext cx="679464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Cognitive Development and Languag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lieved teachers and students learn from each other through words and activitie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orized how children/adults learn from language and how language stimulates cognitive developmen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orized child uses private speech to self–regulate internal though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iewed private speech as speech to oneself that guides one through thoughts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20:28:46Z</dcterms:created>
  <dc:creator>User</dc:creator>
  <dc:description/>
  <dc:language>en-US</dc:language>
  <cp:lastModifiedBy>User</cp:lastModifiedBy>
  <dcterms:modified xsi:type="dcterms:W3CDTF">2011-01-15T18:53:28Z</dcterms:modified>
  <cp:revision>19</cp:revision>
  <dc:subject/>
  <dc:title>Lev Vygotsky: His Sociocultural Perspective on Human Growth and Learning. Date: 10/24/05</dc:title>
</cp:coreProperties>
</file>